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9D0-4037-4D5B-8C55-4D5C7D53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D14-1099-4068-9B38-10AE407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82C-A5B6-4F6D-9CB8-BE5A1358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C63-794A-40C1-A408-C364E75E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5937-F67E-439B-9A81-9E0EBA47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193B-CB01-413C-B2D3-C1229D69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5EF0-36D8-4EE7-BD79-5DC7A64F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000E-CCAA-41D3-8318-ACFEA42B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2BFD-EEF3-414B-97C0-5B263346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B4F7-C43B-427E-A4DF-D2F5B7C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FC47-C3C7-4AA9-A13C-50BDD1FD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C78-8ACB-46DF-A85F-4F2F5D1F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A063-58DA-4F38-83FD-A7429812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33A1-0B75-4C88-B571-EF0C777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2D3E-E360-41B1-8E33-022FB2D7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10E3-9A68-40FE-B4CB-F6D63F0E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F0DD-4ACA-4110-BCAC-579C58D5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2E777-E46E-4646-8662-84564084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29B65-8594-4004-9801-69120146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03AD8-90A4-4DAE-B341-A29299DA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04814-5CE5-434F-9156-C67187C8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329A7-F400-4227-A70B-4D766315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A2C-D8BC-40E4-822C-38C91D50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78429-4DD8-41DC-96FF-A21B60A7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853E2-0C04-47E4-B0F2-D5B69A8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3A7C5-E5B7-4C4B-ADC4-914FE30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EF430-2F27-4AD2-88A6-CC2464C8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2789D-E5E8-4727-9F75-A2B56D54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F956F-023F-4F51-9537-26537C87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05931-8DBE-4E86-9232-4B037A44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42980-383F-472A-8484-E1B80D2F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632A6-10A3-4D8F-926B-C3355B3C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10421-D5C8-4D70-8166-3BBA4D2A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AE3-C561-4750-86DE-9A63B632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44F40-6038-43C2-A961-D3C69D94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E53C1-1FDA-4FD4-9FDD-B0666548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894A4-ECA1-4E52-A3B4-44E3F9AB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DBA6E-E6D9-4E6F-A4D7-A45C539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31D09-0DCB-4E72-BE40-8E617812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44B75-F135-4D12-8C2A-079BD031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F033D-459C-4181-985E-A9F85E19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2A56C-F8BE-4A06-A4B8-00380745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449D4-3B2B-4BB9-B2E4-04AE077E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8EB11-B909-417F-A3F2-6E34157F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751-A55F-4F50-AD10-9272738C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C8496-E43E-448B-A404-33A05331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97DAC-2455-4ADE-AC92-05DBF63E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3D810-DF49-4173-A066-DCC22822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96630-D918-475E-B7AC-5CE52720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384F7-D374-4781-B3E9-DEF20625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7D916-8162-4892-A7A5-F68A9250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F68FB-B7E4-4102-B82C-0A8BD12C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5339F-3EB7-4FD1-9885-C0475C3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2C99D-8BD1-4C6B-8135-E878847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99A7B-CCCF-41F8-B3ED-BF8575CE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5A7-6126-43FE-8F6D-8C74C75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9C89B-2550-4634-948E-2CC40529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D0DB3-62F1-497C-BA96-2A1A04EF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1944-0380-4E36-A80C-CB490F73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1ED35-69A6-48FA-A065-71547545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2A9C-76AC-4369-A6A6-E972C59A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ABFCE-2358-410B-899C-140E0339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B0832-E5EE-4D6C-A829-87598A56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2F826-9E62-43DE-9280-D93B4317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2275A-0BDC-4274-A19E-387B1D25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B2EA5-AD35-467B-B49E-447BBA86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950-AA8A-4278-93A3-6D1AA443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CA401-5E37-4450-9752-DBE9FA13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4D6D7-4261-4AF2-84DB-D175C4DE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A1A78-59C1-47AA-8E0D-F830FE7F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9C9E3-4407-456C-9B5A-B3CB860A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47A23-5024-4024-B8F4-33DA0AC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6ABC0-E2AB-42E5-A6ED-64450951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F9D49-F647-43A8-BFB8-85B3A22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1E1FA-F2F6-46B9-AF96-613F8BEF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5D61F-5549-4C29-AC60-115E8238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16857-0610-4A3C-A184-46698C75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BC0-4EE5-4974-A15F-E18EFE60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83D3A-20B9-419C-B1EB-DC6D15DA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58002-CD6A-4B03-A625-C2153FB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872AE-66D5-4863-A1EB-A040254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ECAA5-7013-4A21-AB31-B4E1DD88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61004-573B-42C6-B748-DBD422D8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0E854-AAE7-492B-85C7-CDA3EA27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4C2F3-75FE-4729-BFAB-1917DE39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2801A-50BF-4C6B-9476-FA8DC9B8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FCB38-0BEA-42CC-B724-89F31752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C341A-9EAC-439A-91D5-2CF6B4FF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086-D892-44BE-A0C6-F5E006B4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A2C37-0E59-437E-8652-B1FBB292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E46FB-C59A-450E-A2F9-92EBC4A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6F3AC-0EE0-4587-A4B8-2D4D14B6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1B567-A1BB-4A89-8D7C-2896FA5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24C6A-B9BD-4BC0-82BC-E1965088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80D26-5F09-44BC-A873-645E7F75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927D2-BFFC-4FA4-9AD1-9CBA2714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2048-E10C-4C0F-A22B-3F8531CB52C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38CE-509B-4695-BE52-9B5D7D643C92}" type="slidenum">
              <a:rPr b="1" lang="cs-CZ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65A1-A3C4-4A31-B7D0-22D1CC1730D3}" type="slidenum"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C423-87C5-4A59-88AA-2C1CE0FE9E33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DC4A-FB7F-4932-98E7-D0DCB3E26C4B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7ED2-FBFD-48CD-835A-D072757A7001}" type="slidenum">
              <a:rPr b="1" lang="cs-CZ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8F9E-3600-4C9C-AFF5-562CE8BF375B}" type="slidenum"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8232-F488-4F96-A297-CF58639A33B2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bddc3"/>
                </a:solidFill>
                <a:latin typeface="Tw Cen MT"/>
              </a:rPr>
              <a:t>K. J. ERBEN 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w Cen MT"/>
              </a:rPr>
              <a:t>Nápady na činnosti a metody ve fázích před, při a po čtení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9120" y="1589040"/>
            <a:ext cx="403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oledne v tom </a:t>
            </a:r>
            <a:r>
              <a:rPr b="1" i="1" lang="cs-CZ" sz="2900" spc="-1" strike="noStrike">
                <a:solidFill>
                  <a:srgbClr val="000000"/>
                </a:solidFill>
                <a:latin typeface="Calibri"/>
              </a:rPr>
              <a:t>okamžiku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táta přijde z </a:t>
            </a:r>
            <a:r>
              <a:rPr b="1" i="1" lang="cs-CZ" sz="2900" spc="-1" strike="noStrike">
                <a:solidFill>
                  <a:srgbClr val="000000"/>
                </a:solidFill>
                <a:latin typeface="Calibri"/>
              </a:rPr>
              <a:t>práce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a mně hasne u vař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ro tebe, ty zlobo, t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PŮVODNÍ TEX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oledne v tom okamžení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táta přijde z robo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a mně hasne u vař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ro tebe, ty zlobo, t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OPAKOVÁNÍ SLOV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ro tebe, ty zlobo, 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ojď si proň ty Polednice, pojď vem si ho zlostníka!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Běda, běda dítě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olednice blíž se plíží , blíž – a již je vzápě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Již vztahuje po něm ru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: otázky k textu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č dítě zemřelo? Je na jeho smrti někdo vine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ak se musela cítit matka, když ji manžel probral z mdlob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o mu vyprávěla, co jí na to řekl (zahrajte rozhovor)? Jak se asi odvíjel jejich další život? Myslíte, že měli ještě nějaké dítě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 u="sng">
                <a:solidFill>
                  <a:srgbClr val="000000"/>
                </a:solidFill>
                <a:uFillTx/>
                <a:latin typeface="Tw Cen MT"/>
              </a:rPr>
              <a:t>Literární kroužky: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(každá skupina může mít jinou báseň, prezentuje vlastní závěr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jazykověd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literárního věd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novinář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životopis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prozai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 (práce ve skupině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orovnejte názvy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dnotlivých básní – jak je Erben vybíral? (nebo doplňte názvy jednotlivých básní – porovnejte s Erbenovými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Hledejt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společné a odlišné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otivy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2 básní (každá skupina má jiné dvě, Polednici a jinou), nebo najděte báseň, se kterou má Polednice podle Vás nejvíce společného, zdůvodně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: Parodie Jiřího Suchého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 lavice dítě stálo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 plna hrdla plakalo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Bodejž jsi jen trochu málo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y cikáně, mlčelo!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oledne v tom okamžení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áta přijde z robot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a mně hasne u vařen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 tebe, ty zlobo, ty!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lč! Hle husar a kočárek –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rej si! – tu máš kohouty!“ –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ež kohout, vůz i husárek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bouch, bác! Letí do kouta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 lednice dítě stál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 plna hrdla zpíval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 tranzistor k tomu hrál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 rytmu se kýval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udba kvičí nervy ničí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epeče se pečeně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Cosi syčí na vařiči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atka křičí zděšeně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léko prchá! Běda běda!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teklo mi do boty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áta bude bez oběda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 tebe ty zlobo ty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anech řvaní moje zlat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rej si - tu máš kohouta!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Jedva matka dořekla t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Bouch bác! Letí do kouta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: Parodie Jiřího Suchého práce ve dvojicích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Poznáte odkud jsou obě ukázky, kdo je jejich autorem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Která z ukázek je asi starší? Proč tak soudít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Čím se od sebe ukázky liší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Co mají naopak společnéh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Čím je ta mladší pro tu starší z hlediska literární teori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Co znamenají slova „bodejž“ a „jeďva“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: Parodie Jiřího Suchého: práce ve dvojicích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Učitel může studentům předložit pouze část zparodizovaného textu, zbytek si mohou studenti zkusit přepsat v podobném duchu, zajímavé výtvory nezapomeňte zveřejnit a porovnat s Jiřím Suchý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říprava na recitaci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: rozdělí si ve dvojici role, vyhledají místa, kde je potřeba vyjádřit strach, vztek, rostoucí hrůzu, kde je potřeba zrychlit, zpomalit tempo, ztišit hlas, dát důraz, apod. – proberou v plénu. Pak zkouší nacvičova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5f55"/>
                </a:solidFill>
                <a:latin typeface="Tw Cen MT"/>
              </a:rPr>
              <a:t>Fáze po čten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apsat zprávu do bulvárních novin či do seriózního deníku o tom, co se stal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rovnat s filmovým zpracováním – forma recenze (všímat si, zda zůstala zachována umělecká hodnot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rovnat s hudebním zpracováním (pouze pro nadšenc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775f55"/>
                </a:solidFill>
                <a:uFillTx/>
                <a:latin typeface="Tw Cen MT"/>
              </a:rPr>
              <a:t>Fáze po čtení</a:t>
            </a:r>
            <a:r>
              <a:rPr b="0" lang="cs-CZ" sz="2200" spc="-1" strike="noStrike">
                <a:solidFill>
                  <a:srgbClr val="775f55"/>
                </a:solidFill>
                <a:latin typeface="Tw Cen MT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775f55"/>
                </a:solidFill>
                <a:latin typeface="Tw Cen MT"/>
              </a:rPr>
              <a:t>Práce </a:t>
            </a:r>
            <a:br>
              <a:rPr sz="2200"/>
            </a:br>
            <a:r>
              <a:rPr b="0" lang="cs-CZ" sz="2200" spc="-1" strike="noStrike">
                <a:solidFill>
                  <a:srgbClr val="775f55"/>
                </a:solidFill>
                <a:latin typeface="Tw Cen MT"/>
              </a:rPr>
              <a:t> s  komiksem</a:t>
            </a: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371484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Clr>
                <a:srgbClr val="dd8047"/>
              </a:buClr>
              <a:buSzPct val="60000"/>
              <a:buFont typeface="Tw Cen MT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ffffff"/>
                </a:solidFill>
                <a:latin typeface="Tw Cen MT"/>
              </a:rPr>
              <a:t>Vymyslet vlastní komiks </a:t>
            </a:r>
            <a:r>
              <a:rPr b="0" lang="cs-CZ" sz="1600" spc="-1" strike="noStrike">
                <a:solidFill>
                  <a:srgbClr val="ffffff"/>
                </a:solidFill>
                <a:latin typeface="Tw Cen MT"/>
              </a:rPr>
              <a:t>– zkusit zachytit děj a atmosféru básně pomocí série obrázků, každá skupina, dvojice, jednotlivec si může vzít jinou skladbu Kytice – možno vytvořit komiksovou „knihu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Clr>
                <a:srgbClr val="dd8047"/>
              </a:buClr>
              <a:buSzPct val="60000"/>
              <a:buFont typeface="Tw Cen MT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w Cen MT"/>
              </a:rPr>
              <a:t>Porovnat  Erbenovu a komiksovou Polednici formou recenze </a:t>
            </a:r>
            <a:r>
              <a:rPr b="0" lang="cs-CZ" sz="1600" spc="-1" strike="noStrike">
                <a:solidFill>
                  <a:srgbClr val="ffffff"/>
                </a:solidFill>
                <a:latin typeface="Tw Cen MT"/>
              </a:rPr>
              <a:t>– domluvit se předem na kritériích, kterých je dobré si v recenzi povšimnout – opět možné rozšířit na celou sbírku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Clr>
                <a:srgbClr val="dd8047"/>
              </a:buClr>
              <a:buSzPct val="60000"/>
              <a:buFont typeface="Tw Cen MT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w Cen MT"/>
              </a:rPr>
              <a:t>Alternativa na ZŠ: </a:t>
            </a:r>
            <a:r>
              <a:rPr b="0" lang="cs-CZ" sz="1600" spc="-1" strike="noStrike">
                <a:solidFill>
                  <a:srgbClr val="ffffff"/>
                </a:solidFill>
                <a:latin typeface="Tw Cen MT"/>
              </a:rPr>
              <a:t>možnost vyprávět příběh na základě obrázků (popř.  seřadit pomocí obrázků dějovou linii básně), dopisovat dialogy do bublin – porovnat s Erbenovými –</a:t>
            </a:r>
            <a:r>
              <a:rPr b="1" lang="cs-CZ" sz="1600" spc="-1" strike="noStrike">
                <a:solidFill>
                  <a:srgbClr val="ffffff"/>
                </a:solidFill>
                <a:latin typeface="Tw Cen MT"/>
              </a:rPr>
              <a:t>i ve fázi před čtením jako motivac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bigImg" descr="74419-gallery-okesd"/>
          <p:cNvPicPr/>
          <p:nvPr/>
        </p:nvPicPr>
        <p:blipFill>
          <a:blip r:embed="rId1"/>
          <a:stretch/>
        </p:blipFill>
        <p:spPr>
          <a:xfrm>
            <a:off x="4673520" y="1714680"/>
            <a:ext cx="3400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Fáze po čtení: ve skupině </a:t>
            </a:r>
            <a:br>
              <a:rPr sz="4000"/>
            </a:br>
            <a:r>
              <a:rPr b="0" lang="cs-CZ" sz="2400" spc="-1" strike="noStrike">
                <a:solidFill>
                  <a:srgbClr val="775f55"/>
                </a:solidFill>
                <a:latin typeface="Tw Cen MT"/>
              </a:rPr>
              <a:t>Práce se sekundární literaturou</a:t>
            </a:r>
            <a:br>
              <a:rPr sz="4000"/>
            </a:b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w Cen MT"/>
              </a:rPr>
              <a:t>Studenti dostanou různé úkol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A) Kteří lidé z kulturního dění byli v Erbenově životě významní a jak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B) Čím byl Erben stálým zaměstnáním? Jak ovlivnilo jeho zaměstnání jeho tvorbu? Dokážete najít příklady v Polednici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C) Jedná se o lyrickou či o epickou báseň? O jaký literární žánr se jedná? Najděte pro své tvrzení důkazy v textu (možno dát na výběr mezi několika definicemi žánrů a nechat je vybrat, pak hledat důkazy v textu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D) Co má Erben společného s Máchou?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400" spc="-1" strike="noStrike">
                <a:solidFill>
                  <a:srgbClr val="775f55"/>
                </a:solidFill>
                <a:latin typeface="Tw Cen MT"/>
              </a:rPr>
              <a:t>Velká myšlenka o K.J.Erbenovi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ásník – badatel pátrá zarputileji než jiní po základních životních pravdách, navrací se ke kořenům lidství- k mýtům, opravdový, syrový a nepřikrášlený je i jeho básnický sty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5f55"/>
                </a:solidFill>
                <a:latin typeface="Tw Cen MT"/>
              </a:rPr>
              <a:t>Velká myšlenka o Kyti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lověk má na světě své poslání dané osudem, pokud se mu zpronevěří, je tvrdě potrestán, odčinit ho může jen upřímným pokáním - a to ne vžd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ajemné, chvílemi hororové příběhy o lásce, narození, smrti, vině, trestu a mezilidských vztazích: na kost obnažené životní pravdy – archetypy lidství bez příkras – bulvár se má od Erbena co uč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5f55"/>
                </a:solidFill>
                <a:latin typeface="Tw Cen MT"/>
              </a:rPr>
              <a:t>Cíle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Uvědomit si význam a sílu mýtu pro dnešního člověka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ochopit oblibu a aktuálnost Erbenovy Kytice (její nadčasovost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Rozpoznat a pojmenovat základní existenciální a mytické motivy Erbenových děl (Polednice) – spojit je s vlastní životní zkušeností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Recitací básně prokázat porozumění jejím významů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Dokázat odlišit žánr balady od jiných, vymezit ho a pojmenova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 u="sng">
                <a:solidFill>
                  <a:srgbClr val="775f55"/>
                </a:solidFill>
                <a:uFillTx/>
                <a:latin typeface="Tw Cen MT"/>
              </a:rPr>
              <a:t>Fáze před čtením</a:t>
            </a:r>
            <a:br>
              <a:rPr sz="3200"/>
            </a:br>
            <a:r>
              <a:rPr b="1" lang="cs-CZ" sz="3200" spc="-1" strike="noStrike">
                <a:solidFill>
                  <a:srgbClr val="775f55"/>
                </a:solidFill>
                <a:latin typeface="Tw Cen MT"/>
              </a:rPr>
              <a:t>forma: samostatná práce,  sdílení ve dvojici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)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Napiš (nakresli),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ak podle tebe vypadá Polednice, jaké má vlastnosti? Pak si o své představě promluv se soused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) </a:t>
            </a:r>
            <a:r>
              <a:rPr b="1" lang="cs-CZ" sz="2900" spc="-1" strike="noStrike" u="sng">
                <a:solidFill>
                  <a:srgbClr val="000000"/>
                </a:solidFill>
                <a:uFillTx/>
                <a:latin typeface="Tw Cen MT"/>
              </a:rPr>
              <a:t>Aktuální problém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: Co se zlobivými dětmi? Bít či nebít? Co si myslíš o návrhu paní ministryně Jamily Stehlíkové? A co strašení čerty a podobnými bytostmi? Je to správné? – může vyústi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 diskus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) Strašili Vás doma? Čeho jste se nejvíce báli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775f55"/>
                </a:solidFill>
                <a:uFillTx/>
                <a:latin typeface="Tw Cen MT"/>
              </a:rPr>
              <a:t>Fáze před čtení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) Zkus uhodnout, kdo je na obrázku (můžeme použít obrázek z komiksu či jinou ilustraci)? Jaké má vlastnosti? Kdo o ní psal? Proč je nejznámější právě báseň Polednice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 algn="just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A) učitel recituje báseň – poté pouští dvě hudební ukázky (např. Polednici od Antonína Dvořáka nebo hudbu k filmu a nějakou optimistickou, jásavou skladbu) a studenti mají vybrat, která ukázka lépe vystihuje atmosféru básně a proč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B) </a:t>
            </a:r>
            <a:r>
              <a:rPr b="1" lang="cs-CZ" sz="2700" spc="-1" strike="noStrike">
                <a:solidFill>
                  <a:srgbClr val="000000"/>
                </a:solidFill>
                <a:latin typeface="Tw Cen MT"/>
              </a:rPr>
              <a:t>Vyberte hudební nástroj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, který by měl doprovázet její přednes, který by nejlépe vystihl atmosféru básně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C) </a:t>
            </a:r>
            <a:r>
              <a:rPr b="1" lang="cs-CZ" sz="2700" spc="-1" strike="noStrike">
                <a:solidFill>
                  <a:srgbClr val="000000"/>
                </a:solidFill>
                <a:latin typeface="Tw Cen MT"/>
              </a:rPr>
              <a:t>Nakresli scénu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, kterou si při přečtení básně představíš, co na ní nesmí chybět, aby vystihla náladu básně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) Porušení metra, rytmické výstavby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– nahradí slova na konci veršů synonymy a zkoumají, co se jim víc líbí, co se změnilo, ztratilo, poškodil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E) Náhrada lexikálních jednotek jinými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– zkoumají, jak se změní význam verše či celé básně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)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řekládání“ do dnešního jazyka: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kouší se porozumět z kontextu, vyhledají ve slovníku, říkají slovosledem současné češtin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G) Porozumívání: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otázky k textu – ostatní píší odpověď,  otázky do klobouku, odpověď v plén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H) Najděte zvláštně znějící slova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– příjemně či nepříjemně? K čemu je Erben používá? V čem mu pomáhají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Ch) Najdi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 tebe nejstrašidelnější část básně! Jak to Erben dělá, že je člověk při čtení jeho básní napjatý, že má strach? Jak stupňuje napětí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) Najdi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 slova, verše, které se v básni opakují a zkus vysvětlit funkci jejich opakování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J)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dy Erben používá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expresivní výrazy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2:25:27Z</dcterms:created>
  <dc:creator>Levente</dc:creator>
  <dc:description/>
  <dc:language>en-US</dc:language>
  <cp:lastModifiedBy>Levente</cp:lastModifiedBy>
  <dcterms:modified xsi:type="dcterms:W3CDTF">2008-04-10T14:07:45Z</dcterms:modified>
  <cp:revision>43</cp:revision>
  <dc:subject/>
  <dc:title>Snímek 1</dc:title>
</cp:coreProperties>
</file>