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52F-A571-4A8C-9901-C9742396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962-282A-4583-BC45-C47CFD9D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4CA-97C7-4525-ABA9-E8993EBC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2A2-BF3D-472E-AA2D-FDF8A17A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FBC4-D55C-4CB8-8F16-DD9D883C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9047-9C2D-4E15-A1FE-C96D3B90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C885-DCB0-47D1-9430-C9976FDD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C1B8-7C46-4A30-BE9D-092F58D3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7DF-69FF-452B-A4BC-76EFF537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A154-1302-4100-A464-71AB2157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E86-E533-4161-877F-B58956F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C12-724F-47E4-BAE2-3204881A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EADF-87FC-4309-84C4-FE7868DF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CFBB-181E-44B8-96DB-304975D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35CB-683F-41DD-9401-708E429D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03C3-AA83-4EC8-9BFC-5BE91742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8DE-01A0-421F-BC43-B20491EC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4C823-6A6B-4FBB-A96E-8BE968A9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2FEE2-E00A-4C3A-A53F-F004DB8D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E9C72-AE0C-43FA-BE27-A35ED23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B2BAE-BB5D-425B-AC9B-A26C36A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02854-89C7-4A46-AA5A-8265C6E1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B6E-908C-484F-87E5-B066DF2A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A5952-A41A-4F5A-B1DA-BAE31B7C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78500-7580-41B0-A9DB-1FA9D42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34E4A-4C11-480B-8F77-EB7E02D9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5F158-3C76-436F-94AF-D53D113B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ACA4D-C9B6-4732-82E6-38E9F4A9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773AC-6DB4-4304-8BC9-D21C59CE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C066A-472F-40B4-BF50-02B31014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D5E74-D7C9-4FD1-BC09-58719621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6CDEE-71D5-4C11-88B9-ED7BD80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6F375-73F7-442E-9896-9B10C386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5AB-33A7-4F6F-AFDA-F26FB436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7746F-856E-44D1-B103-E0323A7A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96F74-CCCC-4151-BF6E-EEF08642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5315F-707C-4FB0-8CC7-96EDD8AC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0CB34-B2FB-4F46-B836-FEBFC404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433DC-FC9C-46EC-8B87-AC1EF8C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22395-1B1A-48A8-982E-6559BF1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7C3C8-BF03-4003-ABC3-F0986CDA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3136D-BAE6-4DAC-A5D4-B1489F7D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7863B-D8E9-49CB-9A62-96D0F87E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C06F3-C45A-4338-902A-04CAFAAB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166-EC49-4FFB-98AD-6A447F40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52DCF-2FE4-4241-88B4-7195B44D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6E4C0-3308-4D45-B07F-B850B0F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83E3B-C502-424C-913E-42317C63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EF9FD-53A8-4830-9634-CDDD814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E7012-E336-4501-BC95-A3566C4A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5B233-E7AC-40A8-9778-15FA6D3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4467C-6412-411E-930A-33B0967C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19706-0D81-427A-B23A-BDE73EC6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D0858-3388-4192-8E7A-D45552A1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C7493-81E9-41CC-920E-498D5EB7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769-6942-4356-B9D8-847C922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2190E-3E21-4AB9-8191-045CB1A9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E721-93C4-431A-A421-AEAC3891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4E870-5F0D-4404-9DE0-31366775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5A678-C3DA-499C-801E-3A8D1CBA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8C8E9-5E4E-444E-9D42-042E5D34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DBDA-4F59-4F43-9E83-70791498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42B07-8AA2-4545-A836-F3539B8A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1AB9-56E3-4B93-8673-C28CEE9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EAA0-E572-447E-9706-D759E75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822D8-CBB2-431F-A1D2-588B607A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E8B-4D54-4819-B1F1-236AE1D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A6CD2-1F96-47FF-A913-156509D2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AB23-182D-4D66-837C-BE8325E6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C9E0-7400-4A3A-B7FA-D6CB80FB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D34BB-6CF2-4747-B2C3-791AD108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55B69-E05A-4315-A5CA-DCA0DCB9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835C4-D501-4A9F-8601-6E07EBA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7A603-F1C3-4540-B15B-D0494C4D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B6A3C-1642-4347-AE8B-24BE0CAA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2FB58-ED34-49D6-8F8D-9FF3A5B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4B484-8113-4170-9DEF-56E37D8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D3B-2140-4785-B07E-9CE54EA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1D6D0-9A01-44F7-BE02-12146E0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D0E0EB-C9E7-4CE3-B63B-5590DCEB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09433-AB66-4828-B826-28616F61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30587-51D9-433C-B814-44A4CB45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A1801-9E1B-488C-BC8D-16F35615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26BC2-3CB4-4A52-ACF3-AC42668D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D9DF-3CA1-467F-BCCA-CE57FD5C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CFB43-FCFC-45D1-91AA-3A6B67CA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B5236-9E67-4CA8-A79C-1D9B89D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6075F-FA09-414A-AEE2-663914AE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EE2-1A1C-4135-9814-4C03C5B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BCD6B-9340-4E5B-9F59-8D281C3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2A9C4-4D40-41E3-B5E5-676FA42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255AB-CA61-4FE5-929C-72531D7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05DFB-A491-49A3-9DCD-C08E450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A872F-F6DF-48D1-966B-8CA0E399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10863-E7D6-414F-84CD-1A5C9D10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F20F3-930D-4990-AFBE-DAFF0444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4FFC-2A67-4682-9EA1-1EB52D8EC9C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FDB0-8625-4811-9D52-F52BBDE0247A}" type="slidenum">
              <a:rPr b="1" lang="cs-CZ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C4DD-50D1-496D-993B-432FBCD0583E}" type="slidenum"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4C3-A1D3-4049-B078-F1DE3C3440E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4AA-84DB-4794-AB85-0D5241EE74FE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A7B-74E3-426F-B321-EF42A1B7B32B}" type="slidenum">
              <a:rPr b="1" lang="cs-CZ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139C-A31C-4483-833C-C002C3876227}" type="slidenum"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9B60-410B-4E11-A8C5-59C43AC31606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bddc3"/>
                </a:solidFill>
                <a:latin typeface="Tw Cen MT"/>
              </a:rPr>
              <a:t>K. J. ERBEN 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w Cen MT"/>
              </a:rPr>
              <a:t>Nápady na činnosti a metody ve fázích před, při a po čtení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120" y="1589040"/>
            <a:ext cx="403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oledne v tom </a:t>
            </a:r>
            <a:r>
              <a:rPr b="1" i="1" lang="cs-CZ" sz="2900" spc="-1" strike="noStrike">
                <a:solidFill>
                  <a:srgbClr val="000000"/>
                </a:solidFill>
                <a:latin typeface="Calibri"/>
              </a:rPr>
              <a:t>okamžiku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táta přijde z </a:t>
            </a:r>
            <a:r>
              <a:rPr b="1" i="1" lang="cs-CZ" sz="2900" spc="-1" strike="noStrike">
                <a:solidFill>
                  <a:srgbClr val="000000"/>
                </a:solidFill>
                <a:latin typeface="Calibri"/>
              </a:rPr>
              <a:t>práce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a mně hasne u vař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ro tebe, ty zlobo, t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PŮVODNÍ TEX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oledne v tom okamžení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táta přijde z robo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a mně hasne u vař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ro tebe, ty zlobo, t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OPAKOVÁNÍ SLOV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ro tebe, ty zlobo, 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ojď si proň ty Polednice, pojď vem si ho zlostníka!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Běda, běda dítě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Polednice blíž se plíží , blíž – a již je vzápě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Již vztahuje po něm ru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: otázky k textu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č dítě zemřelo? Je na jeho smrti někdo vine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ak se musela cítit matka, když ji manžel probral z mdlob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o mu vyprávěla, co jí na to řekl (zahrajte rozhovor)? Jak se asi odvíjel jejich další život? Myslíte, že měli ještě nějaké dítě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 u="sng">
                <a:solidFill>
                  <a:srgbClr val="000000"/>
                </a:solidFill>
                <a:uFillTx/>
                <a:latin typeface="Tw Cen MT"/>
              </a:rPr>
              <a:t>Literární kroužky: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(každá skupina může mít jinou báseň, prezentuje vlastní závě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jazykověd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literárního věd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novinář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životopis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e prozai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 (práce ve skupině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rovnejte názvy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dnotlivých básní – jak je Erben vybíral? (nebo doplňte názvy jednotlivých básní – porovnejte s Erbenovými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Hledejt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společné a odlišn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otivy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2 básní (každá skupina má jiné dvě, Polednici a jinou), nebo najděte báseň, se kterou má Polednice podle Vás nejvíce společného, zdůvodně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: Parodie Jiřího Suchého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 lavice dítě stálo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 plna hrdla plakalo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Bodejž jsi jen trochu málo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y cikáně, mlčelo!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oledne v tom okamžení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áta přijde z robot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 mně hasne u vařen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 tebe, ty zlobo, ty!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lč! Hle husar a kočárek –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rej si! – tu máš kohouty!“ –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ež kohout, vůz i husárek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bouch, bác! Letí do kouta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 lednice dítě stál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 plna hrdla zpíval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 tranzistor k tomu hrál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 rytmu se kýval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udba kvičí nervy ničí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epeče se pečeně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Cosi syčí na vařiči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atka křičí zděšeně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léko prchá! Běda běda!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teklo mi do boty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áta bude bez oběda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 tebe ty zlobo ty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Zanech řvaní moje zlat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rej si - tu máš kohouta!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Jedva matka dořekla to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Bouch bác! Letí do kouta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: Parodie Jiřího Suchého práce ve dvojicích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Poznáte odkud jsou obě ukázky, kdo je jejich autorem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Která z ukázek je asi starší? Proč tak soudít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Čím se od sebe ukázky liší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Co mají naopak společnéh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Čím je ta mladší pro tu starší z hlediska literární teori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775f55"/>
                </a:solidFill>
                <a:latin typeface="Tw Cen MT"/>
              </a:rPr>
              <a:t>Co znamenají slova „bodejž“ a „jeďva“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: Parodie Jiřího Suchého: práce ve dvojicích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Učitel může studentům předložit pouze část zparodizovaného textu, zbytek si mohou studenti zkusit přepsat v podobném duchu, zajímavé výtvory nezapomeňte zveřejnit a porovnat s Jiřím Suchý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říprava na recitaci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: rozdělí si ve dvojici role, vyhledají místa, kde je potřeba vyjádřit strach, vztek, rostoucí hrůzu, kde je potřeba zrychlit, zpomalit tempo, ztišit hlas, dát důraz, apod. – proberou v plénu. Pak zkouší nacvičova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5f55"/>
                </a:solidFill>
                <a:latin typeface="Tw Cen MT"/>
              </a:rPr>
              <a:t>Fáze po čten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apsat zprávu do bulvárních novin či do seriózního deníku o tom, co se stal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rovnat s filmovým zpracováním – forma recenze (všímat si, zda zůstala zachována umělecká hodnot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rovnat s hudebním zpracováním (pouze pro nadšenc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775f55"/>
                </a:solidFill>
                <a:uFillTx/>
                <a:latin typeface="Tw Cen MT"/>
              </a:rPr>
              <a:t>Fáze po čtení</a:t>
            </a:r>
            <a:r>
              <a:rPr b="0" lang="cs-CZ" sz="2200" spc="-1" strike="noStrike">
                <a:solidFill>
                  <a:srgbClr val="775f55"/>
                </a:solidFill>
                <a:latin typeface="Tw Cen MT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775f55"/>
                </a:solidFill>
                <a:latin typeface="Tw Cen MT"/>
              </a:rPr>
              <a:t>Práce </a:t>
            </a:r>
            <a:br>
              <a:rPr sz="2200"/>
            </a:br>
            <a:r>
              <a:rPr b="0" lang="cs-CZ" sz="2200" spc="-1" strike="noStrike">
                <a:solidFill>
                  <a:srgbClr val="775f55"/>
                </a:solidFill>
                <a:latin typeface="Tw Cen MT"/>
              </a:rPr>
              <a:t> s  komiksem</a:t>
            </a: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371484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Clr>
                <a:srgbClr val="dd8047"/>
              </a:buClr>
              <a:buSzPct val="60000"/>
              <a:buFont typeface="Tw Cen MT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ffffff"/>
                </a:solidFill>
                <a:latin typeface="Tw Cen MT"/>
              </a:rPr>
              <a:t>Vymyslet vlastní komiks </a:t>
            </a:r>
            <a:r>
              <a:rPr b="0" lang="cs-CZ" sz="1600" spc="-1" strike="noStrike">
                <a:solidFill>
                  <a:srgbClr val="ffffff"/>
                </a:solidFill>
                <a:latin typeface="Tw Cen MT"/>
              </a:rPr>
              <a:t>– zkusit zachytit děj a atmosféru básně pomocí série obrázků, každá skupina, dvojice, jednotlivec si může vzít jinou skladbu Kytice – možno vytvořit komiksovou „knihu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Clr>
                <a:srgbClr val="dd8047"/>
              </a:buClr>
              <a:buSzPct val="60000"/>
              <a:buFont typeface="Tw Cen MT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w Cen MT"/>
              </a:rPr>
              <a:t>Porovnat  Erbenovu a komiksovou Polednici formou recenze </a:t>
            </a:r>
            <a:r>
              <a:rPr b="0" lang="cs-CZ" sz="1600" spc="-1" strike="noStrike">
                <a:solidFill>
                  <a:srgbClr val="ffffff"/>
                </a:solidFill>
                <a:latin typeface="Tw Cen MT"/>
              </a:rPr>
              <a:t>– domluvit se předem na kritériích, kterých je dobré si v recenzi povšimnout – opět možné rozšířit na celou sbírk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22200" indent="-322200" algn="just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Clr>
                <a:srgbClr val="dd8047"/>
              </a:buClr>
              <a:buSzPct val="60000"/>
              <a:buFont typeface="Tw Cen MT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w Cen MT"/>
              </a:rPr>
              <a:t>Alternativa na ZŠ: </a:t>
            </a:r>
            <a:r>
              <a:rPr b="0" lang="cs-CZ" sz="1600" spc="-1" strike="noStrike">
                <a:solidFill>
                  <a:srgbClr val="ffffff"/>
                </a:solidFill>
                <a:latin typeface="Tw Cen MT"/>
              </a:rPr>
              <a:t>možnost vyprávět příběh na základě obrázků (popř.  seřadit pomocí obrázků dějovou linii básně), dopisovat dialogy do bublin – porovnat s Erbenovými –</a:t>
            </a:r>
            <a:r>
              <a:rPr b="1" lang="cs-CZ" sz="1600" spc="-1" strike="noStrike">
                <a:solidFill>
                  <a:srgbClr val="ffffff"/>
                </a:solidFill>
                <a:latin typeface="Tw Cen MT"/>
              </a:rPr>
              <a:t>i ve fázi před čtením jako motivac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bigImg" descr="74419-gallery-okesd"/>
          <p:cNvPicPr/>
          <p:nvPr/>
        </p:nvPicPr>
        <p:blipFill>
          <a:blip r:embed="rId1"/>
          <a:stretch/>
        </p:blipFill>
        <p:spPr>
          <a:xfrm>
            <a:off x="4673520" y="1714680"/>
            <a:ext cx="3400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Fáze po čtení: ve skupině </a:t>
            </a:r>
            <a:br>
              <a:rPr sz="4000"/>
            </a:br>
            <a:r>
              <a:rPr b="0" lang="cs-CZ" sz="2400" spc="-1" strike="noStrike">
                <a:solidFill>
                  <a:srgbClr val="775f55"/>
                </a:solidFill>
                <a:latin typeface="Tw Cen MT"/>
              </a:rPr>
              <a:t>Práce se sekundární literaturou</a:t>
            </a:r>
            <a:br>
              <a:rPr sz="4000"/>
            </a:b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w Cen MT"/>
              </a:rPr>
              <a:t>Studenti dostanou různé úkol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A) Kteří lidé z kulturního dění byli v Erbenově životě významní a jak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B) Čím byl Erben stálým zaměstnáním? Jak ovlivnilo jeho zaměstnání jeho tvorbu? Dokážete najít příklady v Polednici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C) Jedná se o lyrickou či o epickou báseň? O jaký literární žánr se jedná? Najděte pro své tvrzení důkazy v textu (možno dát na výběr mezi několika definicemi žánrů a nechat je vybrat, pak hledat důkazy v textu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D) Co má Erben společného s Máchou?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400" spc="-1" strike="noStrike">
                <a:solidFill>
                  <a:srgbClr val="775f55"/>
                </a:solidFill>
                <a:latin typeface="Tw Cen MT"/>
              </a:rPr>
              <a:t>Velká myšlenka o K.J.Erbenovi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ásník – badatel pátrá zarputileji než jiní po základních životních pravdách, navrací se ke kořenům lidství- k mýtům, opravdový, syrový a nepřikrášlený je i jeho básnický sty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5f55"/>
                </a:solidFill>
                <a:latin typeface="Tw Cen MT"/>
              </a:rPr>
              <a:t>Velká myšlenka o Kyti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lověk má na světě své poslání dané osudem, pokud se mu zpronevěří, je tvrdě potrestán, odčinit ho může jen upřímným pokáním - a to ne vžd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ajemné, chvílemi hororové příběhy o lásce, narození, smrti, vině, trestu a mezilidských vztazích: na kost obnažené životní pravdy – archetypy lidství bez příkras – bulvár se má od Erbena co uč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5f55"/>
                </a:solidFill>
                <a:latin typeface="Tw Cen MT"/>
              </a:rPr>
              <a:t>Cíle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Uvědomit si význam a sílu mýtu pro dnešního člověka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ochopit oblibu a aktuálnost Erbenovy Kytice (její nadčasovost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Rozpoznat a pojmenovat základní existenciální a mytické motivy Erbenových děl (Polednice) – spojit je s vlastní životní zkušeností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Recitací básně prokázat porozumění jejím významů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Dokázat odlišit žánr balady od jiných, vymezit ho a pojmenova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 u="sng">
                <a:solidFill>
                  <a:srgbClr val="775f55"/>
                </a:solidFill>
                <a:uFillTx/>
                <a:latin typeface="Tw Cen MT"/>
              </a:rPr>
              <a:t>Fáze před čtením</a:t>
            </a:r>
            <a:br>
              <a:rPr sz="3200"/>
            </a:br>
            <a:r>
              <a:rPr b="1" lang="cs-CZ" sz="3200" spc="-1" strike="noStrike">
                <a:solidFill>
                  <a:srgbClr val="775f55"/>
                </a:solidFill>
                <a:latin typeface="Tw Cen MT"/>
              </a:rPr>
              <a:t>forma: samostatná práce,  sdílení ve dvojici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)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Napiš (nakresli),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ak podle tebe vypadá Polednice, jaké má vlastnosti? Pak si o své představě promluv se soused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) </a:t>
            </a:r>
            <a:r>
              <a:rPr b="1" lang="cs-CZ" sz="2900" spc="-1" strike="noStrike" u="sng">
                <a:solidFill>
                  <a:srgbClr val="000000"/>
                </a:solidFill>
                <a:uFillTx/>
                <a:latin typeface="Tw Cen MT"/>
              </a:rPr>
              <a:t>Aktuální problém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: Co se zlobivými dětmi? Bít či nebít? Co si myslíš o návrhu paní ministryně Jamily Stehlíkové? A co strašení čerty a podobnými bytostmi? Je to správné? – může vyústi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 disku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) Strašili Vás doma? Čeho jste se nejvíce báli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775f55"/>
                </a:solidFill>
                <a:uFillTx/>
                <a:latin typeface="Tw Cen MT"/>
              </a:rPr>
              <a:t>Fáze před čtení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) Zkus uhodnout, kdo je na obrázku (můžeme použít obrázek z komiksu či jinou ilustraci)? Jaké má vlastnosti? Kdo o ní psal? Proč je nejznámější právě báseň Polednice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 algn="just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A) učitel recituje báseň – poté pouští dvě hudební ukázky (např. Polednici od Antonína Dvořáka nebo hudbu k filmu a nějakou optimistickou, jásavou skladbu) a studenti mají vybrat, která ukázka lépe vystihuje atmosféru básně a proč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B) </a:t>
            </a:r>
            <a:r>
              <a:rPr b="1" lang="cs-CZ" sz="2700" spc="-1" strike="noStrike">
                <a:solidFill>
                  <a:srgbClr val="000000"/>
                </a:solidFill>
                <a:latin typeface="Tw Cen MT"/>
              </a:rPr>
              <a:t>Vyberte hudební nástroj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, který by měl doprovázet její přednes, který by nejlépe vystihl atmosféru básně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C) </a:t>
            </a:r>
            <a:r>
              <a:rPr b="1" lang="cs-CZ" sz="2700" spc="-1" strike="noStrike">
                <a:solidFill>
                  <a:srgbClr val="000000"/>
                </a:solidFill>
                <a:latin typeface="Tw Cen MT"/>
              </a:rPr>
              <a:t>Nakresli scénu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, kterou si při přečtení básně představíš, co na ní nesmí chybět, aby vystihla náladu básně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) Porušení metra, rytmické výstavby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– nahradí slova na konci veršů synonymy a zkoumají, co se jim víc líbí, co se změnilo, ztratilo, poškodil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E) Náhrada lexikálních jednotek jinými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– zkoumají, jak se změní význam verše či celé bás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)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řekládání“ do dnešního jazyka: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kouší se porozumět z kontextu, vyhledají ve slovníku, říkají slovosledem současné češtin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G) Porozumívání: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otázky k textu – ostatní píší odpověď,  otázky do klobouku, odpověď v plén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775f55"/>
                </a:solidFill>
                <a:uFillTx/>
                <a:latin typeface="Tw Cen MT"/>
              </a:rPr>
              <a:t>Fáze při čtení</a:t>
            </a:r>
            <a:br>
              <a:rPr sz="4000"/>
            </a:br>
            <a:r>
              <a:rPr b="1" lang="cs-CZ" sz="4000" spc="-1" strike="noStrike">
                <a:solidFill>
                  <a:srgbClr val="775f55"/>
                </a:solidFill>
                <a:latin typeface="Tw Cen MT"/>
              </a:rPr>
              <a:t> sdílení ve dvojici a pak v plén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H) Najděte zvláštně znějící slova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– příjemně či nepříjemně? K čemu je Erben používá? V čem mu pomáhají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Ch) Najdi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 tebe nejstrašidelnější část básně! Jak to Erben dělá, že je člověk při čtení jeho básní napjatý, že má strach? Jak stupňuje napětí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) Najdi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 slova, verše, které se v básni opakují a zkus vysvětlit funkci jejich opakování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J)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dy Erben použív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expresivní výrazy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2:25:27Z</dcterms:created>
  <dc:creator>Levente</dc:creator>
  <dc:description/>
  <dc:language>en-US</dc:language>
  <cp:lastModifiedBy>Levente</cp:lastModifiedBy>
  <dcterms:modified xsi:type="dcterms:W3CDTF">2008-04-10T14:07:45Z</dcterms:modified>
  <cp:revision>43</cp:revision>
  <dc:subject/>
  <dc:title>Snímek 1</dc:title>
</cp:coreProperties>
</file>